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457-104D-4D57-9491-64C34CF2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51E-C492-48D0-B730-DB68B5CA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1134B-C46E-466B-9913-9E68C73F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40035-4DE0-4CB9-9EEC-C9B304E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764EB-D05A-4903-9B95-02EEB3A4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45A8A-1AC9-44B8-AEFA-47E5A857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2206B-738F-437E-8DFD-03AF75DC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10E9C-187A-4B1E-858A-5EE0593E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21560-F01C-46C8-AF12-C9307D7B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A9EB0-F37D-4482-B0F0-4E3DA77F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2AFA1-63B6-4097-9667-DA84F835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663-DD91-450E-919C-D9AA6F57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FC5-EF50-4D41-A652-B73D70C0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8474-79BC-4840-B24A-919B99E7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1BDA-DA5B-4665-A8E0-B895B6AA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7A78-702C-4467-BD14-4DF98898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0BDA-2248-4B15-B780-B50FA47E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8EF3-1F53-47D0-B062-49F474EA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EA41-0EEA-4BAE-9B11-0906C1F8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10A5-B5A3-4674-87C6-F4B3E0E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6CF-94B3-4235-BE22-4D6F38B4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D4C-30DA-4D7D-A6DD-70CDD311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9693-68C8-4971-96C1-D29BA8E7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7887-4502-40AE-8456-23BF0A28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2362-A477-4275-AC59-B2034879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FBAC-79FA-45E2-8C87-3B4BAD56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B558-7094-4A87-ADBC-C69DDE7D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BA89-262E-4C9A-BC6D-CD7CA206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D490-6D4D-4F9E-A534-2C8B5D1C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5B4E-B252-4BE5-B526-0D9225AA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845C-37CB-48DB-8F49-201BFE57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0C7-1E96-4FC6-99C7-A34B19AA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4907-246F-47C0-BADC-75E4522A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FBA0-3C0B-4CBD-B349-4BCF203D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8361-BD14-4665-A5B0-DBAC12D6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69F6-4A15-4737-8ADE-6E200416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DA6C-011F-4569-87EB-58949618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D317-940A-4DB6-884F-1DE94342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A4939-8369-443A-86B3-62139F15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9FCA8-41B8-4ADB-9F99-B602C6DB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ABA7-A5E5-4F0C-9FAF-8E552990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C09C2-84D5-40C0-B038-0B30ED5B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F44-1C6C-4F1E-BC11-8EDA8C7B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DCF4A-3F39-46C1-B72C-5397022D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9E71-0B24-4E36-9322-D9BF9861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9838-71E9-40F6-B196-5AF209A8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5EC0-AA3D-4153-9098-B603526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407E-8612-4EA6-B5A8-506A0034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10FB-5CCD-4083-83CA-C82C2F7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640C-FE8F-4E98-9D69-A4594B25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3C72-4DE8-46AF-922B-DFA23181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482E-E61C-4E59-8428-33A2CD99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5D931-CEBA-49FD-B29D-F86ADF09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DEB-AFB1-4889-9176-A30F22CB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8B1D6-DCE8-434C-8B33-013E9E3F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4DFA6-C71E-4560-9489-5CDAE015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B70C1-5645-4203-805D-769CFED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0574D-0855-40BD-9A5F-97C010D1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8EF65-E430-4968-AD79-6406D49F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429A9-BEF7-4B6C-BC94-4E4ABA9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6276-293D-4D6D-9788-D9489CB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25C70-C20B-495C-B30B-8C9AABA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19F50-E4B0-4011-915A-53FDBDA0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6DA3-D5CE-4C0C-B3B1-9A3E1EB5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337-0381-4443-98EF-97ED691F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1174-EDF1-4610-BD42-9AC8DA96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41890-AC10-48D3-81AB-AF5C344C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31FD6-93A3-45E4-9592-99CD654E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7144F-8393-433E-ACE9-1B592E89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AC7F2-B92E-462B-9F5C-0EC07199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49CCD-AD37-4CED-AB31-90971797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9194-5EAE-4CEE-9598-CBA23C3D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42191-9822-4DEA-ACEE-F13F606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7BED-6735-4A33-BF95-465632D8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CBFD-0B6A-4D9C-AB45-81C21743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66E-B356-41E5-85F5-04839BF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96125-CD5F-413D-9F4F-8321EDA9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75D84-9250-4753-9207-1D4A378D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8B18-3726-45A3-9AB7-AE617309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48312-DC39-42C6-A74A-C0D49FFC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84D7-77A1-4462-83AE-18439847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6257D-04DC-4C51-B12F-2501084F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F0DCF-09E7-4D2B-A0BF-0F2154C9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7E48C-66DC-439F-8C6D-AD1014DB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FAAFA-0392-49D7-9F48-9A8DF4B9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EB97C-435E-4930-876F-182139F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90E-CA84-4F74-9225-89D04912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0AC2E-43AE-49A2-978A-BB5CFF1E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5D17F-0461-46BF-8116-3EF5A76D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D25EF-4683-473A-B4DD-153D1E57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B08E1-B73F-4863-98F4-12E88C39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08C91-9E39-4A0C-8AC6-3C7034D7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65311-9CB4-4725-AB5D-4564A3B3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2B564-789A-4AB2-98B8-27DEF0D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525F7-995D-444F-96CB-34E9DCDE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B5FFC-7523-4575-A720-48C2A5DE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518D2-0D38-486A-97E6-75359013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D5E-7449-4E36-9725-FA9C427E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16C89-1E02-44B4-A4F7-E995A517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E2CA7-5E75-4E79-8FE5-0571E1CD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1922F-AD14-4F43-9C3C-91A373E5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A0FA5-591C-418D-BC12-414EBBC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5C8EF-85F7-4AD2-8C3D-4C0FA21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2D83F-98F7-48E3-B887-7EBF8621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3005F-797B-4A29-BC0C-474266FB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6B0DF-DBD6-498B-B73D-6211EED8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0E780-5F73-40BB-A681-876E8385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6093D-7F5A-4E9A-9259-1B39C6DE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465B-65CE-4B2F-84F5-8F0DEC31729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1820-B083-45E4-9CAD-5940B0529BF0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EDF9-9852-49FB-AC7D-B28FE648606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C07B-1800-423D-BBE3-6B3B2C3B5064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2B4D-F835-47BA-9606-B0706E73BD03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125-CF6B-4615-AD24-F661F15B332A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4F19-7FCE-4DB3-8E2E-DB9B0F0AC38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5DB0-1536-4D70-8CF0-397818401F30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1331-7A83-41AF-8F14-2E19F3EAD5B1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destinad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 la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ocupación del tiempo libre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y la </a:t>
            </a: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amenización de la estancia de los usuarios en los campings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</a:t>
            </a: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llevar a cabo todas la actividades propuesta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c00000"/>
                </a:solidFill>
                <a:latin typeface="Book Antiqua"/>
              </a:rPr>
              <a:t>gestionar la empres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adquirir material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buscar ayudas económica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y 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la publici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¿Por que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Ante la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crisis económica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que estamos atravesando 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ir de vacaciones de camping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es una de las maneras 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mas económicas para la socie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El motivo: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Falta de recursos y actividades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con las que cuenta el </a:t>
            </a:r>
            <a:r>
              <a:rPr b="0" lang="es-ES" sz="2400" spc="-1" strike="noStrike">
                <a:solidFill>
                  <a:srgbClr val="d0be40"/>
                </a:solidFill>
                <a:latin typeface="Book Antiqua"/>
              </a:rPr>
              <a:t>camping de Arcos de la fronter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1.-Ofrecer un </a:t>
            </a:r>
            <a:r>
              <a:rPr b="0" lang="es-ES" sz="2400" spc="-1" strike="noStrike">
                <a:solidFill>
                  <a:srgbClr val="c00000"/>
                </a:solidFill>
                <a:latin typeface="Book Antiqua"/>
              </a:rPr>
              <a:t>servicio de cali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2.-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Elevar los niveles de afluencia de client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3.-Ofrecer un 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servicio integr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4.-Facilitar la </a:t>
            </a:r>
            <a:r>
              <a:rPr b="0" lang="es-ES" sz="2400" spc="-1" strike="noStrike">
                <a:solidFill>
                  <a:srgbClr val="92d050"/>
                </a:solidFill>
                <a:latin typeface="Book Antiqua"/>
              </a:rPr>
              <a:t>integración mediante actividad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5.-Fomentar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hábitos de higiene y salu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6.-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Respetar el entorno natural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donde esta e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7.-Dar a conocer </a:t>
            </a: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deportes colectivos e individuales diferentes a los habitual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8.-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Inculcar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 los usuarios los </a:t>
            </a:r>
            <a:r>
              <a:rPr b="0" lang="es-ES" sz="2400" spc="-1" strike="noStrike">
                <a:solidFill>
                  <a:srgbClr val="0070c0"/>
                </a:solidFill>
                <a:latin typeface="Book Antiqua"/>
              </a:rPr>
              <a:t>valores de compañerism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0070c0"/>
                </a:solidFill>
                <a:latin typeface="Book Antiqua"/>
              </a:rPr>
              <a:t>amistad, respeto a sus compañeros y rivales, disciplina y juego en equip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SITUACIÓN GEOGRAFICA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98400" y="2247840"/>
            <a:ext cx="77472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Book Antiqua"/>
              </a:rPr>
              <a:t>Norte: Espera y Bornos. </a:t>
            </a:r>
            <a:r>
              <a:rPr b="0" lang="es-ES" sz="1400" spc="-1" strike="noStrike">
                <a:solidFill>
                  <a:srgbClr val="ffc000"/>
                </a:solidFill>
                <a:latin typeface="Book Antiqua"/>
              </a:rPr>
              <a:t>Noroeste: Villamartin. </a:t>
            </a:r>
            <a:r>
              <a:rPr b="0" lang="es-ES" sz="1400" spc="-1" strike="noStrike">
                <a:solidFill>
                  <a:srgbClr val="ffff00"/>
                </a:solidFill>
                <a:latin typeface="Book Antiqua"/>
              </a:rPr>
              <a:t>Este: El Bosque y Prado del Rey. </a:t>
            </a:r>
            <a:r>
              <a:rPr b="0" lang="es-ES" sz="1400" spc="-1" strike="noStrike">
                <a:solidFill>
                  <a:srgbClr val="00b050"/>
                </a:solidFill>
                <a:latin typeface="Book Antiqua"/>
              </a:rPr>
              <a:t>Sureste: Benaocaz y Ubrique. </a:t>
            </a:r>
            <a:r>
              <a:rPr b="0" lang="es-ES" sz="1400" spc="-1" strike="noStrike">
                <a:solidFill>
                  <a:srgbClr val="00b0f0"/>
                </a:solidFill>
                <a:latin typeface="Book Antiqua"/>
              </a:rPr>
              <a:t>Sur: Algar y San José del Valle. </a:t>
            </a:r>
            <a:r>
              <a:rPr b="0" lang="es-ES" sz="1400" spc="-1" strike="noStrike">
                <a:solidFill>
                  <a:srgbClr val="7030a0"/>
                </a:solidFill>
                <a:latin typeface="Book Antiqua"/>
              </a:rPr>
              <a:t>Oeste: Jerez de la Frontera.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434" name="Imagen 6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915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6" name="Imagen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858000" cy="3504960"/>
          </a:xfrm>
          <a:prstGeom prst="rect">
            <a:avLst/>
          </a:prstGeom>
          <a:ln w="0">
            <a:noFill/>
          </a:ln>
        </p:spPr>
      </p:pic>
      <p:pic>
        <p:nvPicPr>
          <p:cNvPr id="437" name="Imagen 4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RECURSOS 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9" name="Imagen 42" descr=""/>
          <p:cNvPicPr/>
          <p:nvPr/>
        </p:nvPicPr>
        <p:blipFill>
          <a:blip r:embed="rId1"/>
          <a:stretch/>
        </p:blipFill>
        <p:spPr>
          <a:xfrm>
            <a:off x="0" y="2209680"/>
            <a:ext cx="9185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25T21:03:02Z</dcterms:modified>
  <cp:revision>26</cp:revision>
  <dc:subject/>
  <dc:title>NATURALCAMP</dc:title>
</cp:coreProperties>
</file>